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4E1-7BF7-4C13-93B4-C2A20779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08A-4711-4ECF-93ED-94DC572A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E95-6975-4712-B1CA-A254198B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CE7-4CD4-4055-B6F1-65AB0E04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390D-28E7-4740-9C7D-C45FBC02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A5EA-A78A-4EA0-B8A2-3383B687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E64C-C232-4E9A-B647-3C9FA608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0F47-1B7C-4F94-A245-B86040C7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A7AB-639D-471A-89B3-3F6AE46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9D50-4096-4DAC-96FE-DD27A157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281B-0061-4C76-B88D-CD1360C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6E0-2F29-4DF8-AB8C-0E28617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6B75-3DCF-42BD-9B6A-7EAADD30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1C5F-457C-40C3-980D-02406D98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A87D-C9A5-4E34-B402-81504744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BD83-587D-47B0-813C-D82B1131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BFA9-515B-435D-81FF-9834A93D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98D-57CD-4B80-8432-5A9E0FC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E80-CA59-4DEF-A18F-601DF8AC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6F4-BF18-4D37-810B-BE22A670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270-5800-4E6D-A184-DAB8474A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697-6A3B-4DCE-AB6E-1CB7DEB6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40C-851C-47A3-ADD6-6CF2C43C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296-D097-4353-975E-1B81227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B2EA-8112-4CBF-B383-18AE397C6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7E25-04D2-4FF3-985F-731397684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ceaae"/>
                </a:solidFill>
                <a:latin typeface="Bodoni MT Black"/>
              </a:rPr>
              <a:t>403 B</a:t>
            </a:r>
            <a:endParaRPr b="0" lang="en-US" sz="96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5410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Is it worth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4614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M = P (1 + i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Bodoni MT Black"/>
              </a:rPr>
              <a:t>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Where,  </a:t>
            </a: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P= $10,00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i = 8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doni MT Black"/>
              </a:rPr>
              <a:t>and n = 30 yea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33920" y="541008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010280" y="541008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doni MT Black"/>
              </a:rPr>
              <a:t>M = $100,626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Meaning, if you open an IRA beginning with $10,000, leave it sit for 30 years earning an average of 8% interest, you will have $100,626 when you retir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If you contribute an extra $50 a month, your total in 30 years will be $174,03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Black"/>
              </a:rPr>
              <a:t>And…if you contribute $50 every paycheck, your total amount will be $259,67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4:58:44Z</dcterms:created>
  <dc:creator>DCRISS</dc:creator>
  <dc:description/>
  <dc:language>en-US</dc:language>
  <cp:lastModifiedBy>DCRISS</cp:lastModifiedBy>
  <dcterms:modified xsi:type="dcterms:W3CDTF">2009-11-18T15:10:04Z</dcterms:modified>
  <cp:revision>3</cp:revision>
  <dc:subject/>
  <dc:title>403 B</dc:title>
</cp:coreProperties>
</file>